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277-7CB3-40FA-A15F-8443E5C2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3DA-B4C6-42D5-9DBC-762C4E7D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404-B9B5-42ED-B824-B036433E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FCF-B5F0-4E0C-9010-48AD46D4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A2E-AB36-47AF-B324-BD51F011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43C-B9BF-4F12-8432-892E60DF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C6A-A1FB-4911-9494-26FF0841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209-45B6-40A4-B710-40D80EA6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845-1C5E-4621-AD8A-BB76D083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729-EF85-4A97-B497-1A5085DD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B46-CD15-48DE-ADCC-348E7D33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C27-DFC9-4B2A-A3C7-2B886C2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Object 8"/>
          <p:cNvGraphicFramePr/>
          <p:nvPr/>
        </p:nvGraphicFramePr>
        <p:xfrm>
          <a:off x="0" y="5678640"/>
          <a:ext cx="9144000" cy="11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678640"/>
                    <a:ext cx="914400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206-FD97-4F16-81A7-B8F7EAB8F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4582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Futures Forum</a:t>
            </a:r>
            <a:br>
              <a:rPr sz="5400"/>
            </a:b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“Classroom”</a:t>
            </a:r>
            <a:endParaRPr b="1" lang="en-US" sz="5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3429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Waterloo Region District School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June 2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Now!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 wide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sources, thinking and su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Understa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mitations and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pportunities an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and consol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inking and 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Next!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and A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 and Applic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for refining a Vision f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Enabling Strategies towards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P, Mainstream/special populations – choice, voice, passion, persona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Learning!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arity of goal (learning) and rationale (how the new literacies and Web 2.0 integration/ community building ar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and assimilation of new literacies, and Web 2.0 tools systemically, is complex and can only be contemplated if the rationale is sound and suppor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925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ty(Communitech)/Student V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ior Administrative Advisory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Success Pla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e thinking in wr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 grade 10 credit accumulation (bo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 knowledge/expertise integrating technology to engag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high yield, instructional strategies, tools,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rinciple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students utilizing technology mediated approach with interdisciplinary, inquiry-based (passion)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e learning that utilizes student strengths, interests, readiness and learning styles (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professional learning through collaborative networking (learning cycles/PL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utures Forum Classroom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February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Foc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disciplinary, Integrat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eac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ing Across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: Academic English, Careers, Civ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utures Forum Support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Content and Cours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, Evaluation,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Content Pedag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Us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e of Too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MS, OERB, Moodle, Facebook, Ning, Twitter, Library Learning Commons, Blogs/Wik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Hand-Held Devices, Interne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uture Forum Support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-principal Instructional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Support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Technology Service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ervice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Friends (Metrics/Monito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: WLU and U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Networked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(admin &amp; teacher), Central Staff L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Metric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124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, Teacher, Administrator,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le: Student/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Accumulation, Grade 10 OCA, Report Car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(Perceptu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ment, Effectiveness of Interdisciplinary Approach, Effectiveness of Technology Integration for Learn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s, Identify Milestones, Teacher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, Teachers, Administrators, OS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Supports, Curricular Su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Where We Were!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, tools, pedagogy, content, practice, supports, infrastructure, work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veil mythology and reveal possibil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to new literacies and Web 2.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/community buil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4:11:46Z</dcterms:created>
  <dc:creator>Kim</dc:creator>
  <dc:description/>
  <dc:language>en-US</dc:language>
  <cp:lastModifiedBy>Robin Ellis</cp:lastModifiedBy>
  <dcterms:modified xsi:type="dcterms:W3CDTF">2010-06-03T19:34:50Z</dcterms:modified>
  <cp:revision>50</cp:revision>
  <dc:subject/>
  <dc:title>Learning Futures Forum Classroom</dc:title>
</cp:coreProperties>
</file>